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29E-1BBC-4BE5-9DA8-CF5C74F7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1BE-1947-4F69-ADBB-E15CF2C3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507-5C6B-473A-ADB7-18E76C39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88E-C014-46D9-9A67-C655B455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E2D9-6D6C-40DF-A6E1-3B2E6943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5BAE-F1A7-4A0C-98FD-FC0C419D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4319-76C2-4BD9-9899-8EEF7E90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8748-B348-4941-B172-B4EE8287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E138-4FDB-4597-B7C8-AD424E99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E8E0-414E-400B-B1A5-1E11E4E6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F3A0-F87F-44D5-A0D5-6759D9BB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18F-CDEE-42BF-95D0-DEFCA6BA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56E1-9074-4688-961B-80C35791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A524-3CA2-4042-863B-75C0466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B3E9-19E0-450A-A310-0781A0EF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3DFF-D487-48B3-9383-A2E6B648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02FD-54A3-4C0F-9AD3-141CA8E4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F83-73B4-4CC5-86C9-1927044F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A25-0188-4581-856D-42201329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65C-C863-4A11-8DBB-2068C277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FEA-228B-45B8-8A6B-D47BEEBC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D10-9E23-4C7D-BAE7-E9BC33CE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6EC-0E7B-4784-8280-37522C89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036-E467-4914-926A-BA31962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F594-79FF-4522-B45B-A936CD1191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1F49-E33D-472D-9DFA-6EA5366110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6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ARABLE OF THE N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7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does not say what to do with those who are NOT walking upright, and refuse to repent, but other New Testament passages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Corinthians 5:4,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 Thessalonians 3: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f. the following passages – Mat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15-18; Romans 16:17; 1 Th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:14; 2 Thess 3:6-16; 1 Tim 1:19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LESSONS LEARN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st as it was not good enough to be a good fish in the net, it is not enough to just be a good member of the chu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will purge the evil from His Kingdom in the final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weigh the consequences of “disfellowship a brother” seriously and scripturally before executing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similitude because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mparative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more of a parabol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llustration than a parable, li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ny of the other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Topic:  Judgment of God – The good and the evil will be separated in judgment through ange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same setting as the previous 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was taught in private,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disciples, after entering a ho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last of the Matthew 13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en Jesus ends this parable He ask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ave you understood all these things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veral of the disciples we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shermen, and would immediatel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asp the significance of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Ne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 the para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Net” – “SAGENE” – English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ine.”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Trench about ½ mile long (use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ea of Galilee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Not a simple fish trap, but a net to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uggest a sweeping that gather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everything in it sweep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a” – From a Greek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uggesting the entirety of the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uman race, at will all stand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judgment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Beach or Shore” – These ar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hore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’s judgment h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Kingdom” – The universal reign of Chris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orldwide, over every m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a companion parable to the Tares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ere the field is the world (Matt 13:3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hrist’s reign is universal bo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ophetically and actuall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salm 2:6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1 Timothy 6: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Revelation 19:15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The end of the World” com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en the “Net is full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private parables beg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with the “Beginning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” and end with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ummation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ne of the parables ma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om for the 1000 year reig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Angels” – They are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rvester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crip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Matthew 13:3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Matthew 25: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2 Thessalonians 1: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Furnace of fire” – A fit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for GEHENNA – H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Weeping and gnashing of teeth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of punishment of the wick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eyond judgment (Matt 8:12; 13:42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3; 24:51; 25:30; Lk 13:2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Min message is that a separation will be made between the righteous and the un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of the Tares teaches us that the unrighteous are not to be weeded out if there is a chance of uprooting the 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e are guilty of sin if we cause a brother to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tumble. If he loses his soul because of us, w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an lose our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 By sorting out the unrighteous in the churc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are NOT causing problems could split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urch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lways a chance they may see the error of thei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ay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teaches that God will take care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unrepentant in judgmen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re are both good and bad in the church. Be sure you are the goo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aithful attendance is a good start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iberal giving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Singing voic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eloquent in prayer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reat Bible teach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an elder/deacon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Visiting sick/shut-i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a meal to someone just out of the hospital is good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notes on sermo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ttending Bible lecture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a Bible degre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of the abov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M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the mind of Christ, being willing and loving, being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n subjection to His commands is what is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20:38:22Z</dcterms:created>
  <dc:creator>Jerry Cantrell </dc:creator>
  <dc:description/>
  <dc:language>en-US</dc:language>
  <cp:lastModifiedBy>Jerry Cantrell </cp:lastModifiedBy>
  <dcterms:modified xsi:type="dcterms:W3CDTF">2006-01-22T22:44:23Z</dcterms:modified>
  <cp:revision>12</cp:revision>
  <dc:subject/>
  <dc:title>THE PARABLE OF THE NET</dc:title>
</cp:coreProperties>
</file>