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723C-9F72-457F-B6DC-90F35CC4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F9F-90F1-4E50-99C5-218CB611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BA9-EFCE-471C-B00D-CB173D66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2257-15E2-4FD8-A252-62296354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525A-5A1B-444E-A301-BD4332B0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2BED-79DA-4BD0-863C-CACC2B1B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2552-632D-49FE-A04D-587637F9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F0E4-A141-4C29-A18D-308FF3A9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3AF1-E8EB-47FB-993D-A0248EA6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1582-C89E-4CF0-8A27-5E112DA2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4CAE-D687-4A4E-9274-8DA7ED7D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0142-38B9-4210-88DC-A7F35C79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0623-C449-4A45-B494-8841BF6A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9B87-0F5F-4B18-91BD-8696B881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E719-9231-455D-8324-3A38FC9E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A2FD-55B2-4A5F-BCDC-DF5AFE0E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A3E3-6847-45B4-A546-A1CA3CA3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BFFC-E41E-4703-86C7-78EB1AAC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3C01-6D25-4FCE-AC5C-F98967F4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A7E-4CE5-41C1-9AD2-FF00441B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347-877B-4BE5-B2C2-EC83D137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7F89-96FE-4DCC-9506-B23D32AA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FD5-28DE-42D2-B69E-9D540985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B596-7F45-43BE-B8EE-BBF630CD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B1E0-74F2-41E9-9DDB-072556D625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4451-EDC8-4B8C-A314-ECFA8935799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7</a:t>
            </a:r>
            <a:br>
              <a:rPr sz="3600"/>
            </a:br>
            <a:r>
              <a:rPr b="0" lang="en-US" sz="5400" spc="-1" strike="noStrike">
                <a:solidFill>
                  <a:srgbClr val="ffffcc"/>
                </a:solidFill>
                <a:latin typeface="Bodoni MT Black"/>
              </a:rPr>
              <a:t>PARABLE OF THE GROWING TRE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rk 4:26-2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6:63 – It is the words 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“I have spoken to you”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at gives lif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15:3 – It is the word that cleanses a lif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8:31-32 – It is abiding in the word that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makes a man fre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ames 1:18 – The word of God begets us (1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Peter 1:23)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ames 1:21 - It is the implanted word that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ave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 Thess 2:13 – it is the received word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“which works in you that believe.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Hebrews 4:12 – 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“the word of God is living, active, 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sharper…piercing and judging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saiah 55:10 – God’s word does what H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emands of it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Little wonder Satan wants to take the word out of the heart of man – Lk 8:12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1 Thess 2:15 – the Jew drove Paul out,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forbidding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us to speak to the Gentiles,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that they may be saved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V. 18 – Paul would have</a:t>
            </a:r>
            <a:r>
              <a:rPr b="1" lang="en-US" sz="2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come to you, I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Paul. Once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and again, and Satan hindered me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Growth is gradual and occurs in an orderly, natural sequenc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. Development is inherent in the seed; God built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the cycle of reproduction into the seed itself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1. There is little the sower can do after sowing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but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sleep and rise night and day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2. He cannot make the sun shine, clouds to giv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early and later rains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(Jas 5:7), or,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fruitful seasons.”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(Acts 14:17)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4:2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We are not born into the Kingdom full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grow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1 Peter 1:23 – The wor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rminates the new bir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1 Peter 2:1-2 – That sam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ord, as spiritual milk, fe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s as we grow unto sal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2 Peter 3:18 – we continue to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“grow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in the grace and knowledge of our Lord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Jesus Christ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1 Corinthians 3:1-4 – they ha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been fed on milk, and still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needed milk, so they were fe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milk to prepare them for me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Hebrews 5:12-14 – Milk 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for babies, but 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“meat is for full 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 grown men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Hebrews 6:7-8 – Go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expects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a useful crop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sower does his work and then trust God with the incre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ames 5: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ames 5: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 Corinthians 4:7 – The all-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urpassing power is from G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alatians 6: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cts 14: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cts 20: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MESSAGE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essage to these hearers was that the Kingdom would grow and produce fruit and be harves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growth woul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be dependent on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who sowed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standing grain does not know anything about the harvest; only the reaper knows th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Only the reaper knows when the harvest will co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LESSONS LEARNED FROM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is coming to harvest the ear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velation 14:14-16 shows Chris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ith a crown and a golden sick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is told,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take your sickle and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reap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up to us to be good soil an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o produce much fru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Gradual, orderly growth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It is the same of Matthew 13 &amp; Mark 4:1.  He is using a boat as His pulpit and His auditorium is the seashore filled with a </a:t>
            </a:r>
            <a:r>
              <a:rPr b="0" i="1" lang="en-US" sz="2200" spc="-1" strike="noStrike">
                <a:solidFill>
                  <a:srgbClr val="ffffff"/>
                </a:solidFill>
                <a:latin typeface="Benguiat Bk BT"/>
              </a:rPr>
              <a:t>“great multitude of people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Mark records many of the Matthew 13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parables, so the setting and time must b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identica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But Mark is the only one to record this parabl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– maybe it reminds him of his only gradual grow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s a servan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This parable, the Mustard Seed &amp; Leaven, ar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given to confirm faith in the discipl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1. Spoken to those who may have doubted at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some time (no army, wealth, etc. for His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kingdom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2. These three parables surely built confidenc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and hope in His discipl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We see ideas about the Kingdom that need to understood from a Biblical perspective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God is sovereign ruler over the 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Kingdo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1. Judges 8:23 – words of Gideon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2. 1 Samuel 8:7 – Israel demands a 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    king and God tells Samuel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3. Psalm 103:19 – Still God reign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coming of the Messianic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In Prophec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Isaiah 2:1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Isaiah 9: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Jeremiah 30:8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Daniel 2: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 Daniel 7:13-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. Zechariah 6:12-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2. The Kingdom is fulfilled during the ministry of Jesus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a. Mark 1:13-15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b. Matthew 6:10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. Luke 9:2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d. John 18:36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3. The Kingdom established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a. Acts 2:30 – Jesus on David’s throne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b. 1 Timothy 1:17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. 1 Timothy 6:15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4. Names of the Kingdom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a. Matt. 4:23 – Simply called the Kingdom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b. Matt. 19:24; Mk 9:1; Jno 3:3 – Kingdom of God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. Matt. 13:43 – Kingdom of the Fathe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d. Matt. 3:2 – Kingdom of Heaven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e. Matt. 16:28 – Kingdom of the Son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f. Eph. 5:3-5 – Kingdom of Christ &amp; God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od does His job when we do ours (1 Peter 1:23-25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ed” (God’s Word) – Lk 8:1; Mk 4:14; 1 Pet 1:23-25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ed” is “sown” when we preach the Gospel – Mk 4:26; 1 Cor 3:5-6; 9:11; Psalm 126:5-6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ed must be sown – otherwise no “harves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ohn 4:2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 Corinthians 9:6-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ohn 6:44-4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omans 10:11-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Romans 10: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Cf. verse 1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cts 4:4; 18:8 – Hearing precedes belie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od provides the seed – It is, after all, the Word of Go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 Corinthians 9:10 – This is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fferent context, but the truth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mains that God gives the se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saiah 55: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28: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 Thessalonians 2:13-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uke 10: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rm, or power of life, is in the seed – the Word of G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is the major thrust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t is a creation principle – Gen. 1:9-12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each seed produc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fter its ki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source of all lif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Power is not in the “sower” for 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“cast the seed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1 Corinthians 3:5-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 Power is not in the “soils” –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ground only provides the site fo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the seed to do it 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5:22:33Z</dcterms:created>
  <dc:creator>Jerry Cantrell </dc:creator>
  <dc:description/>
  <dc:language>en-US</dc:language>
  <cp:lastModifiedBy>Jerry Cantrell </cp:lastModifiedBy>
  <dcterms:modified xsi:type="dcterms:W3CDTF">2006-01-23T00:33:08Z</dcterms:modified>
  <cp:revision>16</cp:revision>
  <dc:subject/>
  <dc:title>Lesson 7 PARABLE OF THE GROWING TREE</dc:title>
</cp:coreProperties>
</file>