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B2A-A72F-4515-AB01-8B5A1F93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740-C740-4329-A62A-06EBDEC6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ED5-5DCE-4292-9BB9-50BC7406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217-A301-435D-AA69-260CB680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0F26-4891-4D51-B2A6-FBE964A9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EDCB-1764-46EA-BDF3-860FDE7D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E66A-870F-4956-A5F5-92C84E10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5220-E94A-46FB-A9FF-D6D429A3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E649-5092-427D-A9F1-9F3400E8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FA91-F5C8-45E4-B4DC-42BA6B5E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9E4D-3B0D-42AE-9C25-3D497F82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9AFE-FE85-450F-BD7D-2CEA70AA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251E-DF09-459F-8D64-5482A8B8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BE22-AECE-4822-A2D4-D682E7E6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D961-7DD0-4301-A9FD-4CEDEC6E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1B22-276B-4E13-84DC-BA8FD7D9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E349-60BA-4BBF-8434-66A21906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50B-A080-4AB3-A0DD-FDACC043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A3B-CABA-40F9-871D-DE3D3695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5757-04D1-4BD0-9E5C-079BFE2E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D3D-938D-4FB4-959D-D856CE51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0A1-BD0A-47F0-AB0D-ED160CEF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F6A-8C96-4787-8422-0BFF3E1D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507-5883-4198-AC04-9867ED56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B4D6-E6C6-4EEF-95D4-5C7685D840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1223-EED5-4B33-BA0D-70E2DC8CAB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124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INTRODUCTI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GENERAL OUTLINE OF THE PARAB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SSION WEEK (9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reparedness &amp; Emergency (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se &amp; Foolish Virgins (Matthew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5:1-1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Opportunity, Fidelity and Reward (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Talents (Matthew 25:14-3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ounds (Luke 19:11-2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inal Judgment of the Kingdom (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heep &amp; the Goats (Matthew 25:31-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FORMAT FOR STUDYING THE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dentification and Reading of the Par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nounce it General The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k Out its Main Lesson or Less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scuss it Cont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k to make Applic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eal with Problem Areas if there are 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arly Ministry Parables (14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ater Ministry Parables (20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ssion Week Parables (9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mat for studying the par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EARLY MINISTRY (1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“Good News of the Kingdom of Go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nflict of the new and the old (4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uest of the Bridegro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2:18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w Patches and Old Gar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2: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w Wine and Old winesk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9:1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easurers new and o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13:51-5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EARLY MINISTRY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imilitudes of the Kingdom (7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Growing Seed (Mark 4:26-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ustard Seed (Mark 4:30-3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Leaven (Luke 13:20-2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Hidden Treasure (Matt 13:3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earl of Great Price      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Matthew 13:45-4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ragnet (Matthew 13:47-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EARLY MINISTRY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ponsibility of Hearing (1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oils (Matthew 13:3-9; Mark 4:2-8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3-20; Luke 8:4-8, 11-15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anslating Hearing into Doing (2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ittle Children in the Marketplac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Luke 7:3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se and foolish Builder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7:24-2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Kingdom &amp; Presence of Evil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ares &amp; Wheat (Matt 13:24-30, 36-4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“Children of the Kingdom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nditions of Discipleship (3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Empty House (Matthew 12:43-4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Uncompleted Tow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Luke 14:29-3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arring King (Luke 14:3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s of discipleship (2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ief Seats (Luke 14:7-1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harisee and Publican (Luke 18:9-14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rgiveness Among The Disciples (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wo Debtors (Luke 7:36-5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forgiving Servant 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8:2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ivileges and Duties of Disciples (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arren Fig Tree (Luke 13:6-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profitable Servant (Luke 17:7-10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ourcefulness &amp; foresight in using money (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just Stewart (Luke 16:1-1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ch Fool (Luke 12:13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ch Man &amp; Lazarus (Luke 16:19-3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rue Nature of Neighbors (1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od Samaritan (Luke 10:25-39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 Love of God (1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aborers in the Vineyard (Matthew 20:1-16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d Answers Prayers (2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idnight Friend (Luke 11:5-13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Persistent Widow (Luke 18:1-8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d Loves the Lost (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Sheep (Luke 15:3-7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Coin (Luke 15:8-10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Son (Luke 15:11-2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Elder Brother (Luke 15:25-32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SSION WEEK (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The Kingdom of God as Judg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est of Deeds (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wo Sons (Matthew 21:28-3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od’s Overtures Rejected (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ruel Vinedresser (Matthew 21:33-4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reat Supper (Luke 14:15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riage Feast of King’s Son 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2:1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dding Garments (Matthew 22:11-1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22:54:12Z</dcterms:created>
  <dc:creator>Jerry Cantrell </dc:creator>
  <dc:description/>
  <dc:language>en-US</dc:language>
  <cp:lastModifiedBy>Jerry Cantrell </cp:lastModifiedBy>
  <dcterms:modified xsi:type="dcterms:W3CDTF">2006-02-07T04:50:46Z</dcterms:modified>
  <cp:revision>15</cp:revision>
  <dc:subject/>
  <dc:title>GENERAL OUTLINE OF THE PARABLES</dc:title>
</cp:coreProperties>
</file>