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BE9-F4C6-448F-B72B-2454493E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855-3D2A-449E-A2FF-35EE78C4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E75-D5D3-40DF-8B89-9F04B556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46A-5553-4F7A-AEA1-0B6D256E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4443-1FA7-499A-A435-22D190A3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7895-43A8-4081-913D-180EFB8B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58DE-91F1-420F-95DF-52DDDDE8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76B5-6694-44F7-A0CB-0AC5F965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8F0E-1417-4FAD-ADA3-D7C733E8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F7FD-F90D-432E-B10C-CC730CF5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C5F9-A699-4C57-8279-E929C098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5A9-4C8A-4E53-A61A-8B2268AC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6875-AE3F-49E9-BD2D-881D1C37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AAEF-3BC8-4755-AB2D-1716B1F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0D68-ADA4-4F0B-9946-15F5E9CC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C955-5E90-4726-941F-1E147ABC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F98A-844D-4E42-9E87-17067139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2DE-893C-4DED-9468-516DB4AA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577-8D01-4CF6-8302-711FBD4E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E80-999E-4988-9C80-5C3B2C05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FB1-1B31-4CE9-9C81-BA916700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4B2-D6A2-412A-A86C-6093B172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880-4D0B-4D8D-9BC7-A603EC9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97A-61B0-4539-8BF4-D0410AF9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F127-28F3-45DE-8A96-3D037E56DC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164C-CA27-4949-8630-54A555A409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12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SOILS (THE SOWER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MATTHEW 13:1-9, 18-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2: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Luke 8:4-8, 11-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hoever does not have, even what he has will b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aken from him.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Represents people who ha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own in their lives, but it did not l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From the various soi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irds 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ock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acked earth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isture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orn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Choked live ou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ower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s in the Seed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e understood, accepted, help on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represent the hearts of men, and also their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il one (Satan, Devil) came. He took i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. Word concerns him when it ge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o man’s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tan’s work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as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n hard he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rdens his own heart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at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 the s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he heart is harde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rejudice – cf. 2 Thess. 2:10-11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Refused to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love the truth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Conviction of present, but wrong religious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Romans 10:1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ove of sin or pleasure – Hebrews 3:13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encourage one another, so you will not be hardened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sin’s deceitfulnes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Stubborn in wrong or sin -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tiff-necked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uncircumcised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Acts 7:5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Procrastination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oday, if you will hear his voice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harden not your heart.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Hebrews 4: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 Pride based on fear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many believed…but wou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not confess their faith for fear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John 12:42-43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Rocky Places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– Quick life; quick de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wo Problems –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Shallow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(Matt 13:5);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Dry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(Lk. 8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etter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to have known – 2 Pet. 2:21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angers come when one stops believ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Hymenaeus &amp; Alexander (2 Tim 1:19-2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Some depart from faith (1 Tim 4:1-2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Love of money leads some away (1 Tim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1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. Demas turned back from Paul &amp; the faith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(2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must go on to maturity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er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Hebrews 5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They endure for awhil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13: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e tho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 man can serve two master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6:19-2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2:3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t with him, you a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gainst him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 John 2:15-1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not the world…”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orns that choke the see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ares of the world (Matt.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Making a living; seeking comf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Loving the world – 1 John 2: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Demas loved this present world (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eceitfulness of riches (Matt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1 Tim. 6:1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of money is root of all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ds of evi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Rich young ruler – Mark 10:17-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st of other things (Mark 4:1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Could be power, prestige, position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privileg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uld be possessions, status, comforts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foods, cloth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 Rich man – Luke 16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leasures of this life (Lk. 8: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Moses – knew treasures of Egypt could not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be compared to God’s reward (Heb 11:2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mmanded to withdraw from peopl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who are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lovers of self…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2 Timothy 3:2-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Good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Its Characte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od: deep, moist, warm, alread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ert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As to people: grateful for God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blessings; fervent; already fruit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istinguish good from evil (Heb 5: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presents honest hearts: Genuine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incere, honorable and appr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ccepts the word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0). M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hey accept i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Produc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 4:2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ruitful: Produces fruit in person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3:2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e produces a crop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John 15: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bide in me, me in you, bear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muc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Luke 8:1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y patience bring fort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 100, 60 and 30 fold – It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easured by individual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Matt. 25:15; Eph. 4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2 Corinthians 8:12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if the willingnes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is there, the gift is acceptable according to wha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ne has, not according to what he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hav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ruitfulness is a promise, and, it is an assign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nclusion – Luke 8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use what we have. 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ects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f we do not use it, God will take i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Matthew 25:28-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Responsibility of Hearing God’s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Take Heed How You Hear!”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esus first parable from 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oa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which served as His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lpi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“Listen; Hear” – First and last words according to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rk’s accou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Teacher has great responsibility, but so does th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hearer.  Emphasis here on hearer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blic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at large is presented in this parabl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12, Jesus cast a demon from a ma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Pharisees say it was b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eelzebub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, but Jesus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powerfully refutes their argu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Later they ask for a miracle (a sign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) Jesus calls them </a:t>
            </a:r>
            <a:r>
              <a:rPr b="0" i="1" lang="en-US" sz="2100" spc="-1" strike="noStrike">
                <a:solidFill>
                  <a:srgbClr val="ffffff"/>
                </a:solidFill>
                <a:latin typeface="BernhardMod BT"/>
              </a:rPr>
              <a:t>“an evil and adulterous generation.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) The only sign they would receive was that of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    Jona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c. The same day (Matthew 13) He gives the first parabl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dealing with attitude toward God’s Wor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ower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It Jesus in the context – Later it is apostles and anyone who teaches the wo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3:6 – Paul sees himself as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ower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 planted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9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f we have sown spiritual seed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among you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eed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Luke 8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seed is the word of Go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4:14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farmer sows the wor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13:19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…the evil one snatches away what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was sown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Peter 1:25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But the word of the Lord stands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forever. And this the word that was preached to you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Waysid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A traveled road; path; generally hard; packed down by tr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4:6 – Same word Jesus uses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am the wa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8:26 – Priscilla &amp; Aquil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ught Apollo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the way of the Lor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adequatel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22: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persuaded followers of thi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:12 – It was even used referring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Sabbath’s Day’s journey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a Sabbath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Day’s walk from the cit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he Rocky Places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” – Stony ground; full of rocks (probably fruitless land even to farmer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5 –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ere it did not have much soil.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Gk. Says, there was not muc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th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6 – Whatever did germinate, so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ed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because they had no roo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orn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Bramble-bush; bri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crown of thorns on Jesus’ hea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of the same generic typ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7:29; John 19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ost frequently found in vine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shes, rather than larger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who has ears, let him hea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.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eans, Look for the lessons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gures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 learn from the les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Seed-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ord of Go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- As it relates to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the Gospel – Good New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tthew 13:17 – Prophets, righteous m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sired to hear what they he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Romans 1:16 – Power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2 Timothy 1:10 – Salvation has been reveal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hrough the Gosp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or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produces only the Kingdom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2:36-41 – Church started throug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aching the 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enesis 1:11 – Seed brings forth after is 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alatians 6:7, 8 – What you sow, you r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Be sure it is truth – Mark 4:2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lossians 2:8 – Be careful…hollow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ceptive philosoph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John 7-8 – Many deceivers…have gone o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to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What we have can be taken from us – Luke 8: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good so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understood the word – Mark 4:20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we hold it firm, Luke 8: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Christ assures us we will bring forth fru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Matthew &amp; Mark says the soils will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Yie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fruit, some a hundred fold, some sixty, some thirty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5:02:35Z</dcterms:created>
  <dc:creator>Jerry Cantrell </dc:creator>
  <dc:description/>
  <dc:language>en-US</dc:language>
  <cp:lastModifiedBy>Jerry Cantrell </cp:lastModifiedBy>
  <dcterms:modified xsi:type="dcterms:W3CDTF">2006-02-19T06:55:54Z</dcterms:modified>
  <cp:revision>26</cp:revision>
  <dc:subject/>
  <dc:title>LESSON 12 THE PARABLE OF THE SOILS (THE SOWER)</dc:title>
</cp:coreProperties>
</file>