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725-FA21-4719-AAB4-DC1FE70F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4B6-6AF1-4422-89FE-7E088778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70D-827E-4F27-B72A-85F10848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906-28A3-4AAC-A4A9-F440AE55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AEBF-45F2-47B3-926D-B8BB56F1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AE1F-115D-4D78-A6BE-E003C131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D912-3083-49E1-BA23-BF57A886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1AC3-4D5C-4273-999C-E7355EA1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4884-DD47-4058-ADC6-6A111DBA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0530-4A02-4A67-B25A-F18C0A62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F647-8EE7-4160-BEF3-B45E312D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23A-31AC-4507-92B2-A5A38120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1C01-990C-46B2-9433-53FF2684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78B2-F92D-4B54-80B2-BA67B04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E95-3827-4579-91F7-DC1F362D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6DA4-47EF-4066-BDC9-D452CA3A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500C-CEFF-4197-AE4F-F3877587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760-1887-4308-8CA8-D51D4718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A07-1B1A-416C-AE3B-EC426921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2BB-A937-44FB-A29E-958B6725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F51-FCD1-4135-ACC4-52ED6D18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F37-9217-4FAB-936B-583CEE9C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82D-479F-4001-9C8C-FF0D9185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4DE-8DE6-4F21-AF8E-B26CA038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BDE2-11E1-4A17-A360-D7021D0AF2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418-9AB6-41DE-9051-1582467F13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8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Bodoni MT Black"/>
              </a:rPr>
              <a:t>THE PARABLE OF THE MUSTARD SEED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41148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31-32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4:30-32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Luke 13:18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re is prophecy in the parable of Great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 24:14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he end will come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Jewish age)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after gospel has be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preached to the whole worl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5:9-10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Christ purchased m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rom every tribe, language, people &amp;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7:9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great multitude…from every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, tribe, people, language…”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Kingdom’s growth still invol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vita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Revolution begins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te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church begins in a new er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fforts of one per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person’s prayer leads 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angelization of a 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A.O. Essein (Nigeria) was taugh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BCC course at suggestion of Ev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raun (Hitler’s paramour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 glorious end is more important than a glorious beginning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Kingdom of God is a living,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ynamic organism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glory of Nebuchadnezzar, tower of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abel, Roman Empire, all had gloriou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eginnings, but ended in rub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aniel 7:14 – The Kingdom had a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mall beginning, but it will never end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m. Barclay and others try to make the parable fit modern denominationali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e would be the church;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anches would be the variou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nomi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t this make the application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 to those in the first centur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out relevance – there was only on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urch t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would interpret the parable from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spective of today’s many churc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eat growth of the Kingdom will come from a very small begin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ame as Matthew 13:1; Mark 4:1; - The boat is still His pulp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has the seed sown in a field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in the earth; Luke in a gar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presents this parable aft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Soils” &amp; “Tares” – both deal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 sowing the se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presents the “Soils,” then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Growing Tree,” then the “Musta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isolates this parable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Leaven” parable from either contex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” – In Jewish idiom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verb – the smallest of see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Not literally so, for cypress, poppy &amp; Ru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re small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“Mustard Seed” in proverbial langu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tthew 17: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Luke 17: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In Matthew you could move mountains;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Luke you can transplant sycamine tre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in the oc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In these cases – as in the parable – Go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can do marvelous things with sma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tree of the Mustard plant may grow 10-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2 feet tall, but that is hardly impressiv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compared to the cedars of Leban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Luke does not mention the smallness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seed, but the greatness of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point of the parable is neither the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mallness of the seed, nor the great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It is simply a contrast between the tree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greatness compared with the small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eed from which it ca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Jesus wants to teach the disciples that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Kingdom will be glorious in spite of it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apparent weak, despised beginn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rees in scripture are symbols of “Kingdoms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is always God who determines their seasons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streng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Ezekiel 17:22-24 – Jehoiachin’s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(597 BC) is like a tree clipped and tak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into Babyl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God said,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And all the trees of the field sh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know that I the LORD have brought down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high tree, have exalted the low tree, have drie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up the green tree, and have made the dry tre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to flourish: I the LORD have spoken and hav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done i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Daniel 4:10-18 – Nebuchadnezzar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 Kingdom was like a great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Ezekiel 31:3-14 – Assyria was as a cedar i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Lebanon – hewn down because of pr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eat growth can come from small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aniel 2:34-35 – The stone became a grea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unt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seed is hardly a fitting meal for a bird, b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planted it has the power to feed a n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bably not relating the parable to h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ginning – relates to Kingdom of heav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But if so, then an humble carpenter, fr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obscure village in a conquered provi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ith 12 quibbling disciples who seem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re a detriment to His intent than prim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vers of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arables explanation relate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’s small beginning and gloriou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ansion – Luke 12:3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Kingdom’s amazing grow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2:41 – “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3000 added unto the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4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men came to 5000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5:1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multitudes, both men &amp; wome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disciples multiplied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7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rd increased…disciples multipli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8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ent everywhere preaching the wor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0:18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their sound into all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arth…their words unto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nds of the worl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5:2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uld not preach where Christ had already been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preach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. V. 19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gospel preached from Jerusalem to Illyricu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. v. 23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o more place for me to work in this regio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ol. 1:23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gospel preached in all the world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ol. 1:6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preached to all creation under heaven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Phil. 4:22 – Christians were even in Caesar’s household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(Nero’s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re is significance in small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Zech. 4:1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who has despised the day of sm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thing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rops of water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ains of sand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cean and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gives meaning and importance even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ittle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Matt 10:42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cup of water onl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Matt 25:3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talent is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Mark 12:44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mite was praised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Luke 15:4, 8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lost sheep; one lost coin ar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0:34:04Z</dcterms:created>
  <dc:creator>Jerry Cantrell </dc:creator>
  <dc:description/>
  <dc:language>en-US</dc:language>
  <cp:lastModifiedBy>Jerry Cantrell </cp:lastModifiedBy>
  <dcterms:modified xsi:type="dcterms:W3CDTF">2006-01-23T19:54:41Z</dcterms:modified>
  <cp:revision>14</cp:revision>
  <dc:subject/>
  <dc:title>Lesson 8 THE PARABLE OF THE MUSTARD SEED</dc:title>
</cp:coreProperties>
</file>