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FC5-DAE2-47E4-9462-A27777BB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29EE-3B20-485D-9952-FBB8A93D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300-C815-4B17-81C4-0D059364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024-ACB6-4C16-8B57-DF3D6B32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3B38-E9C6-47D2-88B4-085BCE05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00E6-5727-4891-A9C2-7B5AAF5A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0D6F-8B4D-4BC6-900E-80FBC500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6E26-B7BD-4328-9A79-DE738D56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4E95-5D96-439D-8D67-D01F8121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04E8-D3C1-42E2-A0BC-B084F29A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563F-66F3-44F7-A636-35F61142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0030-4F89-4044-BF22-1B39034A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6E46-79F7-48C7-9A40-5EA73ADB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ECBA-D78D-4E79-9DD8-333D4E2F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3465-1B4B-48BE-9724-44761031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BC89-2B6A-41F2-8724-8C6F46C0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1611-41AE-4B19-A7CD-F185A8C9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CC35-A3C9-4058-8630-B6D49712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62E4-2E8B-4772-A719-2CAB7D8E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555-2367-4CE3-B69A-290B6E9E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6F5F-0185-4166-90D7-32C2953D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15D-4B93-478A-B550-B4C852FE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3162-EC56-4C23-9A83-8D1BDF32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799-6A3E-4E77-816A-A6CC2AEB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68EB-94DC-45DA-BAD9-004312C3F96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3421-773F-477F-8A18-6CBB37B829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ESSON 4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Bodoni MT Black"/>
              </a:rPr>
              <a:t>NEW PATCHES ON OLD GARMEN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9:16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ark 2:21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,; Luke 5:3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Good News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Conflict of Old and Ne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ame as the previous parable - Jesus is in Galilee eating in Matthew’s house with publicans and sinn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Question of fast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question came from John’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sciples – Matthew 9:1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also came from the Pharisees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rk 2:1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hristianity is not 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patch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on Judaism; It is not an abridgement of, addition to, or syncretism with the Law of Mo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a totally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garment, suite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o new privileges and bless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To try and mix the two woul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estroy the purpose of b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udaism – the OLD garment is worn o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remiah declared i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LD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, aging,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d nigh unto passing away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remiah 31:31-3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5:17-19 is a gros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isunderstanding of Jesus’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ntent in relation to th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Verses 17-1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is explanation is in v. 1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law with all it types, shadows and blue-prints – once fulfilled, totally loses its significance and purp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UNTILL” 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til (always signifi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ange thereafter). Limits the Law’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en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UNTIL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‘to the time that…’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alatians 3:19 – the law was add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until the seed comes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Law was a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‘tutor unto Christ’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bu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ow that Christ has come,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we are no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longer under a tutor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vs. 24-25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hristianity inaugurates a totally new economy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 remodeling of the old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new in authority, government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erritory, fellowship, destiny, purpose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understanding and scop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ophets of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Old Garmen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promised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eople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Garmen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n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Song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Psalm 40:3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Promise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Name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Isa. 62:2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Promise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Covenan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Jer. 31:31-34)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Promis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Things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Isa. 40:9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4. Promis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Heavens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&amp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Earth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Isa.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65:22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5. Promis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Hear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&amp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Spiri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Ezek.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36:36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ven the honored Passover must find 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fulfillment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in Christ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desired to eat the Passover with th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postles – the last tim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t would have Jewish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ignificanc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ven then it was prophetic of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New Meaning!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Luke 22:16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not eat it…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. Luke 22:18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not drink… until kingdom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 comes.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3. Matthew 26:19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not drink… until I drink it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 new…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4. 1 Corinthians 5:7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our Passover…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 sacrificed… even Christ.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Nothing in the Law is incumbent on the church – Eph. 2:14-16; Col. 2:13-17; Gal. 3:15-19, 21-31; 5:2-6.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8:00:03Z</dcterms:created>
  <dc:creator>Jerry Cantrell </dc:creator>
  <dc:description/>
  <dc:language>en-US</dc:language>
  <cp:lastModifiedBy>Jerry Cantrell </cp:lastModifiedBy>
  <dcterms:modified xsi:type="dcterms:W3CDTF">2006-02-13T10:42:06Z</dcterms:modified>
  <cp:revision>11</cp:revision>
  <dc:subject/>
  <dc:title>LESSON 4 NEW PATCHES ON OLD GARMENTS</dc:title>
</cp:coreProperties>
</file>