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178B-0523-450A-95C5-A5385E006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7376-1C55-4C4A-A8EC-7CADD9285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D809-3E68-4428-BB3C-59CC87695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3FE6-63DB-4D9D-92AC-9B2EE9565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5A918-2EA6-4794-B301-85EA3BC3B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9C7B1-97ED-4AB9-9C16-7D53FF317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47690-5B97-40BE-B60F-C437AF2B4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02D9E-86C4-49AC-9B42-68222049F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2B52E-A781-42CB-9B68-90436B0E6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82AED-582C-4880-B3DE-467E03BDD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2A730-6BA2-485B-808A-4F7C68AE9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9C35-E273-4B0B-95BF-E3D773A53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32C12-72AD-4DA8-ABAC-CABCADC9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F00DF-C874-496E-B4A3-6F1B2D8DD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6F389-2CFB-4157-9455-B63DF8B79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96309-EFDD-4C4F-AA76-6559994D1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F3D4B-29AF-49D2-A56C-1BFA28936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A443-B3DF-46A5-A284-BA8BCF223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D866-1978-432B-8A39-E2692769C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0D1C-4033-4227-A3A2-6ED4A2937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B3CC-E367-4CEB-BB00-B48267A41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055F-B0D4-4961-B89C-FBCECE67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FA2E-B2A0-41EF-AB15-06D8C55C2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8F4B-0F56-4001-9A09-A48D19120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57A4F-2114-47CF-80E1-351E885E9CF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8925E-F3CC-41B9-9856-85D793833E1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 MT Black"/>
              </a:rPr>
              <a:t>Lesson 5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Bodoni MT Black"/>
              </a:rPr>
              <a:t>NEW WINE &amp; OLD WINESKIN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Matthew 9:17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; Mark 2:22; Luke 5:37-3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E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We follow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New Teaching / Doctrine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(Mk. 1:27; Acts 17:19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F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We follow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New Commandment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(John 18:34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G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We wear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New Name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(Rev. 2:17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H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We walk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New &amp; Living Way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(Heb.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0:20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I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nd we serve i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Newness of Life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(Rom.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6:4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J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nd i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Newness of Spirit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(Rom. 7:6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“</a:t>
            </a: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No one after drinking old wine wants the new, for he says, the old is better” 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(Lk. 5:39)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Jesus recognizes man’s reluctance to give 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up the </a:t>
            </a:r>
            <a:r>
              <a:rPr b="0" i="1" lang="en-US" sz="2500" spc="-1" strike="noStrike" u="sng">
                <a:solidFill>
                  <a:srgbClr val="ffffff"/>
                </a:solidFill>
                <a:uFillTx/>
                <a:latin typeface="Benguiat Bk BT"/>
              </a:rPr>
              <a:t>Old Paths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, with its traditional 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devotions for the novelty of the new, 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uncharted ways of the new teacher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Jesus knew the old law viewed the new as 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suspect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Traditions die slowly; rejection of the new 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grows out familiarity of the old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The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Benguiat Bk BT"/>
              </a:rPr>
              <a:t>New Wine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 and the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Benguiat Bk BT"/>
              </a:rPr>
              <a:t>New Skins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 of the 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Christian system offended the traditional 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Hebrew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E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o the Jews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good old days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were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only days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, and th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restoration of Israel had to be the way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o go (Acts 1:6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. The prophets and the Law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spoke of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later days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,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coming days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and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end of the age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of Judaism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(Isa 2:2-4; Joel 2:28ff; Dan 2:44ff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. Hebrews speaks of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world to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come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and its new priestly system as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having come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(Heb 2:5; 9:11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hrist’s teaching were revolutionary, but iconoclastic in the destruction or denial of their Hebrew roo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John 4:22 – </a:t>
            </a:r>
            <a:r>
              <a:rPr b="0" i="1" lang="en-US" sz="2800" spc="-1" strike="noStrike">
                <a:solidFill>
                  <a:srgbClr val="ffffff"/>
                </a:solidFill>
                <a:latin typeface="Benguiat Bk BT"/>
              </a:rPr>
              <a:t>‘Salvation is from the </a:t>
            </a:r>
            <a:r>
              <a:rPr b="0" i="1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nguiat Bk BT"/>
              </a:rPr>
              <a:t>Jews’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– not the Samaritans, much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less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Genti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Jewish Christians may still b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zealous of the law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(Acts 21:20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. They may still enjoy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old wine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as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long as they didn’t impose it on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othe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. Cf. Rom. 14:1-12; Gal. 2:3-5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INTRODUC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General Theme:  Good news of the Kingdo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ain Lesson: Incompatibility of the Old and the New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Bodoni MT Black"/>
              </a:rPr>
              <a:t>SETTING</a:t>
            </a: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 OF THE PARABL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It is the same as the previous two parables – The question is still FASTING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It is the same truth but with a new emphasi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new cloth and the new wine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re known as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Twin Parab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parables of the ‘Pearl of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Great Price’ and the ‘Hidden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reasure’ teach the same less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THE SETTING OF THE PARABLE </a:t>
            </a: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wo problems present in this parabl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new wine is lost along with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new life it offer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old skins are burst and loses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it inte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ut both are significant within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ir own spheres of purpo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NEW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life in Christ is lost when forced int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OLD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forms (Galatians 5:2-6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f. John 1:17. (</a:t>
            </a:r>
            <a:r>
              <a:rPr b="0" i="1" lang="en-US" sz="3200" spc="-1" strike="noStrike">
                <a:solidFill>
                  <a:srgbClr val="ffffff"/>
                </a:solidFill>
                <a:latin typeface="Benguiat Bk BT"/>
              </a:rPr>
              <a:t>‘truth’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is </a:t>
            </a:r>
            <a:r>
              <a:rPr b="0" i="1" lang="en-US" sz="3200" spc="-1" strike="noStrike">
                <a:solidFill>
                  <a:srgbClr val="ffffff"/>
                </a:solidFill>
                <a:latin typeface="Benguiat Bk BT"/>
              </a:rPr>
              <a:t>‘reality’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law was a system of shadows,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nd it rituals were prophetic of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“reality” and was significant only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Benguiat Bk BT"/>
              </a:rPr>
              <a:t>“until”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(or, as far as, and until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further)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Hebrews 9:10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28600" y="2133720"/>
          <a:ext cx="8763120" cy="4032000"/>
        </p:xfrm>
        <a:graphic>
          <a:graphicData uri="http://schemas.openxmlformats.org/drawingml/2006/table">
            <a:tbl>
              <a:tblPr/>
              <a:tblGrid>
                <a:gridCol w="1752120"/>
                <a:gridCol w="1752120"/>
                <a:gridCol w="1754280"/>
                <a:gridCol w="1752120"/>
                <a:gridCol w="1752480"/>
              </a:tblGrid>
              <a:tr h="197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Benguiat Bk BT"/>
                        </a:rPr>
                        <a:t>OL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Based On La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Benguiat Bk BT"/>
                        </a:rPr>
                        <a:t>OL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Requires </a:t>
                      </a: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Perfection -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 </a:t>
                      </a:r>
                      <a:r>
                        <a:rPr b="0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Benguiat Bk BT"/>
                        </a:rPr>
                        <a:t>Earn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Benguiat Bk BT"/>
                        </a:rPr>
                        <a:t>OL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Glory To M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Benguiat Bk BT"/>
                        </a:rPr>
                        <a:t>OL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Impossibl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 to Attai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Benguiat Bk BT"/>
                        </a:rPr>
                        <a:t>OL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Produces Frustration &amp; Bonda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Benguiat Bk BT"/>
                        </a:rPr>
                        <a:t>NE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Based On Gr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Benguiat Bk BT"/>
                        </a:rPr>
                        <a:t>NE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Requires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 Faith In Go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Benguiat Bk BT"/>
                        </a:rPr>
                        <a:t>NE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Free Gif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Benguiat Bk BT"/>
                        </a:rPr>
                        <a:t>NE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Freely 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Availabl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Benguiat Bk BT"/>
                        </a:rPr>
                        <a:t>NE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Produces </a:t>
                      </a: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Assurance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 &amp; Freedo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"/>
          <p:cNvSpPr/>
          <p:nvPr/>
        </p:nvSpPr>
        <p:spPr>
          <a:xfrm>
            <a:off x="990720" y="1523880"/>
            <a:ext cx="7086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12193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CONTRAST BETWEEN OLD &amp; NEW ON JUSTIF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What If Christianity is viewed as a new legal system of Justification?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We would have the same frustrations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1. Romans 8:1 – </a:t>
            </a: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‘no condemnation…’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2. Romans 7:24 – </a:t>
            </a: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‘O wretched man… who will </a:t>
            </a: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    deliver me?’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3. Gal. 3:10-12 – </a:t>
            </a: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‘Christ redeemed us from </a:t>
            </a: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    the curse.’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We would lose our assurance in Christ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1. Rom. 5:1 – </a:t>
            </a: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‘being justified… we have </a:t>
            </a: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    peace.’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2. 1 Jno 5:13 – </a:t>
            </a: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‘…written that we may know </a:t>
            </a: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    we have eternal life.’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We would lose or destroy th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purpos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of the Law – the old skins are burst,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ruined of their purpose (Gal. 3:22-25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We would lose the purpose of th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ross – Gal. 2:21; 3:13-14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E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We would lose the purpose of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obedience of fait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. Salvation would be by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performance (Rom 4:2-5) and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would exclude all men (Rom 3:9-23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. We claim justification by faith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(Titus 3:4-7; Eph. 2:5-10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ut In Christ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We are 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New Creation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(2 Cor.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5:17; Gal. 6:15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We ar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One Man In Christ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(Gal.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3:28; Eph. 2:15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We are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New Jerusalem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(Rev.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21:2; Heb. 12:22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For us, </a:t>
            </a:r>
            <a:r>
              <a:rPr b="0" i="1" lang="en-US" sz="3200" spc="-1" strike="noStrike">
                <a:solidFill>
                  <a:srgbClr val="ffffff"/>
                </a:solidFill>
                <a:latin typeface="Benguiat Bk BT"/>
              </a:rPr>
              <a:t>‘the first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(old) </a:t>
            </a:r>
            <a:r>
              <a:rPr b="0" i="1" lang="en-US" sz="3200" spc="-1" strike="noStrike">
                <a:solidFill>
                  <a:srgbClr val="ffffff"/>
                </a:solidFill>
                <a:latin typeface="Benguiat Bk BT"/>
              </a:rPr>
              <a:t>things are </a:t>
            </a:r>
            <a:r>
              <a:rPr b="0" i="1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Benguiat Bk BT"/>
              </a:rPr>
              <a:t>passed away… all things are </a:t>
            </a:r>
            <a:r>
              <a:rPr b="0" i="1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Benguiat Bk BT"/>
              </a:rPr>
              <a:t>new.’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9T19:19:05Z</dcterms:created>
  <dc:creator>Jerry Cantrell </dc:creator>
  <dc:description/>
  <dc:language>en-US</dc:language>
  <cp:lastModifiedBy>Jerry Cantrell </cp:lastModifiedBy>
  <dcterms:modified xsi:type="dcterms:W3CDTF">2006-02-13T10:53:50Z</dcterms:modified>
  <cp:revision>16</cp:revision>
  <dc:subject/>
  <dc:title>NEW WINE &amp; OLD WINESKINS</dc:title>
</cp:coreProperties>
</file>