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BBA-5498-420C-8F5A-29CEAEDC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049-1111-44BD-9B5B-28A85CFE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CC2-B2E6-4BC9-AC78-0DDADEEC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672-5C04-419C-B167-3DE94298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4C82-47A5-4849-AD09-A026721B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AD0F-7C6B-44AF-8E88-207E5729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85C6-0F43-415D-8B38-B2A66414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0A54-A38A-4509-8BDA-0C730A3E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7349-9E85-486A-8A03-CCDD4803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B6F1-8176-48A1-830C-08EAFCDA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6657-9EE7-4446-9492-E63352CF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13D-8F2F-48F4-954E-EB2CBAAC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4574-5629-4EEF-8A17-90D52AC5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63BD-41FE-4034-9382-E2694A46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BCB3-9426-469B-823E-9F7A9313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6178-AF67-4264-8DDB-26EE4A06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5F6D-B44A-4ACE-BB92-599D84B0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A92-1479-4C5B-99BA-F25A6A9C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203-FFE0-427F-B098-F7B72E73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A5E-576E-42F7-972E-0643B445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545-02FD-456F-A43B-4089B60D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919-54F6-4D32-B15C-C7C5410C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38B-1A61-49FB-8879-068DDD59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1DF1-88C2-48AD-8C95-0EB310C4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4D5D-A2C6-4D4E-AA33-280223FB48D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32F3-872C-48A6-907D-36FC049567F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11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THE PEARL OF GREAT PRIC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45-4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Seeking and finding the Kingdom is the supreme discovery bringing the greatest joy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as the parable of the “Hidden Treasur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“Great Value” of the Kingdom is still the top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willingness to sacrifice all is the characteristic of the seeker for the finder of the treas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cc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rchan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Trader; merchantman; retailer – Rev. 18:3, 11,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merchants of the world weep over fallen Babylon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Pear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Highly esteemed for purity and beau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ason for Jesus’ advice – Matt 7: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ither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ve appreciation fo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piritual val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Cor. 2:1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atural man does no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 receive the things of the spirit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velation 21:21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oly city…adorne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ith twelve pearls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parable expands on the message of the “Hidden Treasure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isdom of seeking the greatest things in l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eb. 11:6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God is a rewarder of them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at diligent seek Him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. 6:3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seek first </a:t>
            </a:r>
            <a:r>
              <a:rPr b="0" lang="en-US" sz="2800" spc="-1" strike="noStrike">
                <a:solidFill>
                  <a:srgbClr val="ffffff"/>
                </a:solidFill>
                <a:latin typeface="BernhardMod BT"/>
              </a:rPr>
              <a:t>(first importance)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kingdom of God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 7: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he that seeks, finds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Acts 17:2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he his not far from each on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of us…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easy to find for those wh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seek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merchant had a definit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pose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e pursued it with singleness of he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Luke 15:8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e woman had a lamp, swep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nd searched diligent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Too much “aimlessness” to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The parable illustrates the Kingdom i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orth intense and diligent sear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merchant was not satisfied with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rdinary; common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he sought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rnhardMod BT"/>
              </a:rPr>
              <a:t>fine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pearl of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rnhardMod BT"/>
              </a:rPr>
              <a:t>great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val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Understanding the great worth in finding the pear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earl equates to an eternal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aved sou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ohn 1:45-46 – It is Phillip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nouncement to Nathanael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e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have found the one Moses wrote about in the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law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willingness to sacrific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to possess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ar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The merchant was an ordinary trader, but 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becomes a collec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His interest is no longer for physical g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) Treasure is too great to negotiate wi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) Possession brings joy – he would sel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everything el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) All other pearls are sacrificed to posses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this 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There may be more than one way to find a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reasure or pearl, but there is onl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ay t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ossession them –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sell everything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lvation is both a gift and 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ch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It is a gift - because it is not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merchant’s doing – only his discov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It is a purchase – because it is wor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everything we can put into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12:3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For where your treasure is, the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ill your heart be also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Col. 3:2-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Set your mind on thing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bove, not on earthly things. For you died,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your life is now hidden with Christ in Go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Matt 6:20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ut store up for yourselve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treasures in heaven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21:18:32Z</dcterms:created>
  <dc:creator>Jerry Cantrell </dc:creator>
  <dc:description/>
  <dc:language>en-US</dc:language>
  <cp:lastModifiedBy>Jerry Cantrell </cp:lastModifiedBy>
  <dcterms:modified xsi:type="dcterms:W3CDTF">2006-02-10T03:29:05Z</dcterms:modified>
  <cp:revision>11</cp:revision>
  <dc:subject/>
  <dc:title>LESSON 11 THE PEARL OF GREAT PRICE</dc:title>
</cp:coreProperties>
</file>