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EBB6-6EF1-4E87-BD91-C6434DC8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41F0-BCE8-4B16-9633-82331DA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D1FA-AC11-48E3-8E85-678AF784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AADF-EA19-4E3B-A3A4-72AD91BC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80D-803E-4733-9B2A-150EE48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DFC-A359-4EDA-955B-90F119D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A865-6306-4ECE-92AD-7D11F7F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CDD1-01E3-4087-A13B-24102BA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2AC4-6B90-4518-89EA-C8980952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B6B8-5AEE-4FD7-9D5F-D46A74F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EE0F-9A80-48EA-BE44-0BDB973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2A2B-CC14-4518-B3ED-43269067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821-5983-48A8-B8C2-369D5E9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228F-188A-40A4-8900-585E642F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D055-65CD-4598-A966-32222BFF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4E71-6E23-422B-BCF1-249233C2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07EF-9CDB-4155-8517-AC85525A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FE5E-8760-405D-A68F-FEBC4D11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885C-1440-4EDD-9104-1DF12D9A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ABDD-1192-41F6-93B0-27251496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AE54-C9B8-42AC-9050-C666B0AA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3813-768C-4E91-B55A-6DE5830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79B6-404D-4F2E-B9F5-342D8EB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9D2E-86C8-4B57-A410-EA75260B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5D6-2AD3-4EFE-8804-35A9AB186F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735-9BA9-43DC-97C3-B82E0E5AE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THE WISE AND FOOLISH BUIL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267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nguiat Bk BT"/>
              </a:rPr>
              <a:t>Matthew 7:24-27, Luke 6:46-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Translating hearing into do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Obedience must be added to hearing Jesus’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iven at the close to the Sermon o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u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sermon demanded a positive response – it could not be igno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The challenge of the sermon would not go a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is no neutral ground – no third op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at challenge is a fitting conclusion to these last parables, for the response to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message is crucial, critic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Hea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So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Ponde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Children at Pl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Respon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o the Message – Th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In the latter part of the sermon, Jesus uses three sets of contrast to show the absolute necessity of obedience to His 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3-14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Broa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destruction,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nd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Narrow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6-19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Goo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good fruit an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evil fru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n the third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ip-service is never a substitute for actions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7:21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not everyone who says unto me Lord,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Lord…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uke 6:4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nd why me Lord, Lord and do not the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things I say?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Unreserved obedience is demanded by our L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Romans 2:13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for it is not those who hear the law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who are righteous in God’s sight, but it those wh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obey the law who will be declared righteous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re was no profit to the Hebrews because they did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not associate hearing the word with doing the w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Hebrews 3:19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so we see they were not able t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enter, because of their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Hebrews 4: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…they did not go in because of their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ames 2:2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 man is justified by what he does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not by faith only.”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ll hearers ar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oth heard the same message – And it was the right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are only two kinds of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Jesus’ word; life modeled by Hi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orals; patterned by His examp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foundations of his own choosing;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akes up his own life-style; establishes his prioriti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Hearers have two choices from which to choose their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found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“Puts them into practice” – obeys = rock – has a soli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foundation for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Christ’s words are truth – John 8:31-3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is words came from God – John 8:48-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5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e the foundation on which God build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church – Matthew 16: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“Does not put them into practice” – disobeys = Sand – Shifty,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unstab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) Rejection of Jesus’ teaching is a choi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) This is the spirit and attitude of the sons of disobedient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Ephesians 2:2-3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3) If God doesn’t build the house, the laborers build in vain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Psalm 127: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floods will com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1 Peter 4:12 –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Do not be surprised at the painful trials…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2 Timothy 3:12 – If you live a godly life, you will suff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houses are tested by flood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Impartial – Same flood hits both hous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Each man’s works will be made known – 1 Corinthians 3:13;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cf. Hebrews 12: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Only one builder will stand – the one who obey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Only the obedient are saved – Hebrews 5:9; 2 Thessalonians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1: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And it fell with a great crash.”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– Everything was lost!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05Z</dcterms:created>
  <dc:creator>Jerry Cantrell </dc:creator>
  <dc:description/>
  <dc:language>en-US</dc:language>
  <cp:lastModifiedBy>Jerry Cantrell </cp:lastModifiedBy>
  <dcterms:modified xsi:type="dcterms:W3CDTF">2006-02-19T10:13:58Z</dcterms:modified>
  <cp:revision>7</cp:revision>
  <dc:subject/>
  <dc:title>THE WISE AND FOOLISH BUILDERS</dc:title>
</cp:coreProperties>
</file>