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B9F-265C-4BD3-BFEF-E6E43632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370-1BE6-42FC-BA63-7DA40C66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25F-B28C-4B54-8542-770B72BB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C7E-F00C-4CA7-94BC-356FFAE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D76F-B41D-489A-8BCA-D6562562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6D07-EAB2-41ED-B2A7-9145E41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F375-DA2A-4C60-9735-E1A291C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D33F-F0F4-4B68-89BE-0EBDD21C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B73F-59BA-458C-8341-5A1676CC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FB2-C131-46A2-8A6A-72325FC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0377-34D6-4F1D-9133-1F663B6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2CD-0290-46CD-BABB-38371F1F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A4DF-3866-4428-BA95-D1E8CE2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3AFB-69CB-4D56-8C09-5CEFC73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AAD1-63EB-441D-B1FB-CCBF610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3948-F323-4E18-986E-9971F753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2642-5569-4BD2-9AFB-6F8E5D86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B19-B7CA-4DD3-BC2A-77F09AF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970-D65C-4A86-9B54-7815C59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E7D-BE8A-49CF-AE63-C9FFBDBA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24C-3403-4B04-AA77-7E95F340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C7E-B23A-45EC-8682-CA1A6553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043-5288-4CAA-AB47-525D968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D94-5804-49BE-8131-2B8FEEF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A70-6FE1-4872-8CC6-7B5384E1B9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B0BE-E50A-4076-871B-974EB9261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LESSON 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enguiat Bk BT"/>
              </a:rPr>
              <a:t>AN INTRODUCTION TO THE PAR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aborers in the Viney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1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S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8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riage of King &amp; Wedding Gar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2:1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en Virg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-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heep &amp; The Go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31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Deb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6-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ood Samarit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:25-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iend at Midn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5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Rich Fo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6-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atchful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35-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rren Fi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6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Chief S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7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east For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2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Great Su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6-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Unfinished T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28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King Going To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31-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Co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odigal 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11-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Dishonest Ste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ich Man &amp; Laza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9-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ster &amp; 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7:7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sistent Wid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harisee &amp; Public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9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9:11-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– Both are comparisons – differ in form not ess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very detail in allegory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eaningful (Gal. 4:21-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lanation is contained i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(John 10:1-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iterally a “fig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teach only one truth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may teach several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Isa. 5:1-7; Psa. 80:8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or My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ligion vs the secular – bo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ach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contain fantasy, unreal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natural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tham’s talking tree seeking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ler (Jud. 9:7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maziah sends messengers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hoash (2 Kings 14:8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place the unnatural in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atural so as to teach some desir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u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ver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ffer from Parables even th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oth words are us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erchangeably in the N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st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4:23 – more a proverb tha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times calle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dark saying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6: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ly, proverbs are short – “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utter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part of their meaning and leave the rest to be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inferred 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(Tr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ld Testament said He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Psalm 78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kes truth clear to believers (Matt. 13:10-12; Lk. 8:9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illustrate the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y spur men to deeper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ought and ref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They attract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 They are du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 They stimulate inqui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test the character of the hear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isarm antagonism, hasty judgment &amp; preconceived prejudi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emand an answer, to encourage a verdic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enable the hearer to recognize themsel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produce a sudden awaken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move men’s thoughts from the earthly to the heavenly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quicken the powers to hear proper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leave men with clear options and alternati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void making every detail to be meaningful &amp; 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k first to understand the salient or principl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must not be the primary of first source of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ver interpret the literal from the figur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ook for the obvious, easy truth, and its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scover from the con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ow Christ to explain His own 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arch the context for explanations, hints, or c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wedding (Matt 22:1-14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Many are called, but few chose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oolish &amp; wise virgins (Matt 25:1-13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erefore keep watch, because you do not know the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day or the hour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ost sheep, coin, boy (Luke 15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is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lcomes sinners and eats with the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rsistent Widow (Luke 18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Parable…the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ought always to pray and not faint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harisee &amp; Publican (Luke 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me were…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elf-righteous and looked down on everyone el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pound (Luke 19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people thought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e kingdom of God was going to appear at o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will open my mouth in parables, I will utter hidden things, things from of o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33-34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ith many similar parables Jesus spoke the word to them, as much as they could understand. He did not say anything to them without using a parable.  But when He was alone with His own disciples, He explained everyth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were used before Jesus’ time but never with His success. When we think of parables we think of J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comprise 1/3 of the recorded teachings of Jes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righteous steward (Luke 16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Use wor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alth to gain friend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merciful Servant (Matt (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How many times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hould I forgive my brother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borers in vineyard (Matt. 20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 the last will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be first, and the first will be la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ich Fool (Luke 12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Watch out! Be on your guar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gainst all kinds of greed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parables relate to kingdom it is different from earthly kingd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honest with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diligent in study and pr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first applications to yourself. Let the Lord instruct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WHAT IS A PARAB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OLE – “PARA,” beside or alongside; “BOLLO,” to th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sic Idea: a comparison; an analogy; a figurative say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n earthly story with a heavenly meaning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– Good gener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ut a bit too general – some d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not tell a story – rather saying 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dage (ancient wisdo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Physician heal thyself”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Luke 4: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B</a:t>
            </a:r>
            <a:r>
              <a:rPr b="1" i="1" lang="en-US" sz="2400" spc="-1" strike="noStrike">
                <a:solidFill>
                  <a:srgbClr val="ffffff"/>
                </a:solidFill>
                <a:latin typeface="BernhardMod BT"/>
              </a:rPr>
              <a:t>lind leading the blind” 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(Matthew 15: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Nothing inside a man can  make him ‘unclean’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going into him. Rather, it is what comes out of a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at makes him ‘unclean.’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Mark 7:15-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use familiar experiences and makes an application by comparison or ana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“User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rows dow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 familiar story and then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lays alongside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esired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HOW ARE PARABLES USED IN SCRIP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Old Testament Parables – proverbs or similitud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Isa. 5:1-7 – God’s parable on Israel being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vineya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 Sam. 12:1-7 – Nathan’s parable to David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the only sheep), 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you are the man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New Testament Parables – Some 45 different moral stories of Jesu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ke records the greater por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records Kingdom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presents very few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ohn presents NO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600200"/>
          <a:ext cx="8686800" cy="51516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of  Brideg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Patches/Old Gar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Wine/Old Winesk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2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8: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Mustard S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18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cked Husband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33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9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Fig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32-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8-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9-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se &amp; Foolish Buil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24-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:47-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in the market p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16-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1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ea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0-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She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2-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3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Wise Ste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45-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42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idden Trea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ecious Pea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7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Drag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ousehol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Unmerciful Ser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23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21:11:15Z</dcterms:created>
  <dc:creator>Jerry Cantrell </dc:creator>
  <dc:description/>
  <dc:language>en-US</dc:language>
  <cp:lastModifiedBy>Jerry Cantrell </cp:lastModifiedBy>
  <dcterms:modified xsi:type="dcterms:W3CDTF">2006-02-06T19:47:39Z</dcterms:modified>
  <cp:revision>23</cp:revision>
  <dc:subject/>
  <dc:title>THE PARABLES OF JESUS</dc:title>
</cp:coreProperties>
</file>